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23.png" ContentType="image/png"/>
  <Override PartName="/ppt/media/image13.jpeg" ContentType="image/jpeg"/>
  <Override PartName="/ppt/media/image29.jpeg" ContentType="image/jpeg"/>
  <Override PartName="/ppt/media/image8.jpeg" ContentType="image/jpeg"/>
  <Override PartName="/ppt/media/image35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3.png" ContentType="image/png"/>
  <Override PartName="/ppt/media/image12.jpeg" ContentType="image/jpeg"/>
  <Override PartName="/ppt/media/image34.png" ContentType="image/png"/>
  <Override PartName="/ppt/media/image7.jpeg" ContentType="image/jpeg"/>
  <Override PartName="/ppt/media/image28.jpeg" ContentType="image/jpeg"/>
  <Override PartName="/ppt/media/image6.png" ContentType="image/png"/>
  <Override PartName="/ppt/media/image36.jpeg" ContentType="image/jpeg"/>
  <Override PartName="/ppt/media/image2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CA7C-A893-431F-A857-8D9F02655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8D67-D256-47CB-93FE-440E1E8E9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9821-D0A1-4A77-86A7-1C74131C0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8D9A-78D3-4AFD-A315-A95F8DB9F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B7B4-1F49-4136-8815-BF9675D28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9F74-7C9C-48D5-B543-24C6A63C6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F36E-737B-4035-AC71-C379BAE8B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951D-7D3B-4FD4-920D-D77BE8862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E29A-72FF-49E7-9E9F-359A59D7B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D599-C351-4C0E-BCCB-EC8CA68E2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CF56-CD9D-4EAD-92EA-F4637B095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4611-FD84-4E7D-9960-748E25E0D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7A9B-0653-43A6-AEFB-1B9E004ED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4BC3-A1FD-430D-89D4-DED5FFD3B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0049-E3C9-49A1-8642-BF0C19516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B91C-08C9-4FF7-8AAF-1CF35D97F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BEEB-F8AE-4468-B16B-2AF7F8FDE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CC52-5D55-4347-8411-BEC3DCBB5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3072-B6D3-45CE-845F-0194B1742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C406-8C89-4EBE-B6E3-F134C1946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1C86-2D7E-4F66-979A-D8E1180EE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9214-B0D9-449A-820B-8F3B56CA6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736F-152A-4739-966E-B371BE4EB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EE59-1E85-4091-BB4E-2C1FAD7CB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12E2-BCFB-4C87-B268-36B8C91B5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F7BC-248D-482E-A601-CFABF312D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9BE8-703A-43B6-91DE-AA7E1F43A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EA2C-BDCA-451A-95B3-9AE53EE97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82A4-857F-47E9-850A-8E289FEDB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E0F4-5331-4AC9-9403-057BA4903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5441-6796-4C50-AFED-EB5F40870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54B2-DE2B-4209-AABB-B9FB22F39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6305-4DD0-4176-93A7-E10423B8F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2D09-B556-46E7-BD79-D8F62AEEB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6CA3-6FCC-4A3E-A918-F3DAF0B82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778B-5A2A-4963-AF97-C5850E648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B8A9-34E3-4581-8CC6-8C771570F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58A4-BA2B-4FA4-935D-646595E6E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DADB-AF78-4B2B-974A-4DC123D25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0B87-A628-4DB0-9379-18778BD2D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1E92-6619-4C8A-8432-9C2CA7225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4081-3063-4C86-950E-08FF8064F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2E53-5807-441F-9BFE-F7D161F55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3A8E-88B2-414E-BD14-89DBA9E27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77EB-5797-40E2-95DC-39DE8CB26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0F0D-3F2C-4430-A104-D46161F4B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5F6B-30D7-4CE9-B0B6-7DFADFA4F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FF8F-9531-4ABA-8F8F-943CB7347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EE9F-779E-4051-B6EC-389382988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BA6B-2F5D-4527-849F-A425EC6E9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6B0A-BD37-436B-B705-F976414F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EBBD-495E-40EB-858A-ADB2CEC05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5D8B-AE17-40A0-98EB-16F146BD9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6623-8BBC-4ECB-84A7-8DEAF8DF6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98F7-C414-4DFD-9FA9-38FBB29F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701F-E507-4285-BD70-0A8CAE57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1468-D50E-4F21-A65D-A1D12FF9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DAED-15C6-4C13-BCB7-A8C15F8C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B131-C139-46D2-B624-28A4730B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7E05-AA2C-42AE-B697-424C428D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CFB2-4CBD-47C5-8D9B-69A06A61C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4D5C-5B5D-4787-BBFB-EBC141E8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F162-EF1A-4BDA-81F2-19DA650D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6351-9F42-4509-94F7-A5664BED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9D2F-4982-4071-9151-8B71431F0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A705-4FA5-4E74-B645-C8D7A5784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44D4-7C6C-4C27-8580-8729C90A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9F8E-3F92-45A7-96DD-2713C7D67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5679-3C90-473B-9478-349A534E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9FC5-AE5E-4FD0-A16A-10B45150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7A26-663D-4F49-8839-3642A686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19DE-3B67-4AD8-B34C-D5AC7B03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16A2-83BB-4BF3-A0D2-279E2E51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9BED-378B-4DFD-8F76-05F8AE1D10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E358-013B-42F2-A188-BAE17E7760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bens.anu.edu.au/student.projects/hemp/oldtractor.jpg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hemphousemaui.com/womensclothing.html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hemphousemaui.com/mensclothing.html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hemphousemaui.com/footwear.html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www.hemphousemaui.com/indexOIL.html" TargetMode="External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1295280" y="228600"/>
            <a:ext cx="640080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 13:  Forests, Parks and Landscap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240" y="2057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ests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conomically 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cologically 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0948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heat, sugar cane and other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gricultural stra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gricultural was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la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used for over 2000 y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ecycled pap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  Down from 10% (1990) to 5% toda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(consumer apath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  Not easily market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7" descr="recycled paper"/>
          <p:cNvPicPr/>
          <p:nvPr/>
        </p:nvPicPr>
        <p:blipFill>
          <a:blip r:embed="rId1"/>
          <a:stretch/>
        </p:blipFill>
        <p:spPr>
          <a:xfrm>
            <a:off x="6324480" y="4114800"/>
            <a:ext cx="1895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1523880" y="0"/>
            <a:ext cx="5791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orest Manag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4400" y="12189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wo types of fores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Most logging is on private and U.S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orest  service lan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fo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the greatest amoun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good for th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atest amount of peopl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69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440" y="762120"/>
            <a:ext cx="8458200" cy="59436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.S.F.S.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multiple use polic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ervationists call this poli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“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multiple misus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93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533160"/>
            <a:ext cx="830592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ogging strateg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9" descr="6517f04a.gif - 1.43 K"/>
          <p:cNvPicPr/>
          <p:nvPr/>
        </p:nvPicPr>
        <p:blipFill>
          <a:blip r:embed="rId1"/>
          <a:stretch/>
        </p:blipFill>
        <p:spPr>
          <a:xfrm>
            <a:off x="5867280" y="533520"/>
            <a:ext cx="266724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6517f04b.gif - 1.55 K"/>
          <p:cNvPicPr/>
          <p:nvPr/>
        </p:nvPicPr>
        <p:blipFill>
          <a:blip r:embed="rId2"/>
          <a:stretch/>
        </p:blipFill>
        <p:spPr>
          <a:xfrm>
            <a:off x="6019920" y="2362320"/>
            <a:ext cx="2438280" cy="1581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6517f04c"/>
          <p:cNvPicPr/>
          <p:nvPr/>
        </p:nvPicPr>
        <p:blipFill>
          <a:blip r:embed="rId3"/>
          <a:stretch/>
        </p:blipFill>
        <p:spPr>
          <a:xfrm>
            <a:off x="5867280" y="4800600"/>
            <a:ext cx="27687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09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ffects of clear-cut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landslides likely on steep slo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6396120" y="6400800"/>
            <a:ext cx="274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3 John Wiley and Sons Publis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223920" y="228600"/>
            <a:ext cx="137628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ffects of clearcutting on forest chemical cycl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6" descr="F13_13"/>
          <p:cNvPicPr/>
          <p:nvPr/>
        </p:nvPicPr>
        <p:blipFill>
          <a:blip r:embed="rId1"/>
          <a:stretch/>
        </p:blipFill>
        <p:spPr>
          <a:xfrm>
            <a:off x="1486080" y="0"/>
            <a:ext cx="765792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ests mgmt may also include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cribed burning. (clear underbrus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lantation Fore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cal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planted after clearcut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7" descr="forest"/>
          <p:cNvPicPr/>
          <p:nvPr/>
        </p:nvPicPr>
        <p:blipFill>
          <a:blip r:embed="rId1"/>
          <a:stretch/>
        </p:blipFill>
        <p:spPr>
          <a:xfrm>
            <a:off x="5029200" y="3886200"/>
            <a:ext cx="3809880" cy="274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plantation_lif"/>
          <p:cNvPicPr/>
          <p:nvPr/>
        </p:nvPicPr>
        <p:blipFill>
          <a:blip r:embed="rId2"/>
          <a:stretch/>
        </p:blipFill>
        <p:spPr>
          <a:xfrm>
            <a:off x="304920" y="3902040"/>
            <a:ext cx="396216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1676520" y="380880"/>
            <a:ext cx="54100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ks and Preser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440" y="17524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 info. (10% land set asid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ional  and State Park Servic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s. Forest Servic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_____________________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l. Parks managed by 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state manages ow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irst Natl. Park in US was Yellowstone i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8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-161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80880" y="53316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arks and preserves as isla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k vs nature reserve/wilder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 park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 natl. reserve…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land biogeograp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 size and diversity of habit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fects  # of species t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be maintaine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esigning a preser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r, more varied habitats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nectivity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fores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  One of the most crucial environmen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rns of our ti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irect caus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developing world = majo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 of fu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6095880" y="1523880"/>
            <a:ext cx="990720" cy="1524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7162920" y="6583320"/>
            <a:ext cx="255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3 John Wiley and Sons Publis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990720" y="411120"/>
            <a:ext cx="1600200" cy="96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mic Sans MS"/>
              </a:rPr>
              <a:t>Park shapes and island biogeograph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4" descr="F13_14"/>
          <p:cNvPicPr/>
          <p:nvPr/>
        </p:nvPicPr>
        <p:blipFill>
          <a:blip r:embed="rId1"/>
          <a:stretch/>
        </p:blipFill>
        <p:spPr>
          <a:xfrm>
            <a:off x="2666880" y="304920"/>
            <a:ext cx="6019920" cy="61722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3276720" y="91440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Good – large area protects many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6095880" y="1447920"/>
            <a:ext cx="990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Small areas but over more than one area can be better insura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4724280" y="5638680"/>
            <a:ext cx="25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Best – wildlife corridors connect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73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-36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erving Wilder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ilder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undisturbed, roadless habit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U.S. Wilderness Act of 1964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“Humans ca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‘visit’, not machines!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11" descr="hiking in Adams Ansel Wilderness, John Muir Trail"/>
          <p:cNvPicPr/>
          <p:nvPr/>
        </p:nvPicPr>
        <p:blipFill>
          <a:blip r:embed="rId1"/>
          <a:stretch/>
        </p:blipFill>
        <p:spPr>
          <a:xfrm>
            <a:off x="1219320" y="3048120"/>
            <a:ext cx="701496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 14:  Wildlife, Fisheries and Endangered Spe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alibri"/>
              </a:rPr>
              <a:t>Managing wildlife populati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44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a.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Maximum Sustainable Yield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SY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b.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Minimum Viable Population 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(endangered spec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c.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Optimum Sustainable Pop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d. Carrying Capa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ver 70% global fishes considered overfish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762120" y="18288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she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d fish harvests are decli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ental shelf = 95% harv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upwelling, nutrients, alga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armful commercial fishing techniques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6"/>
          <p:cNvSpPr/>
          <p:nvPr/>
        </p:nvSpPr>
        <p:spPr>
          <a:xfrm>
            <a:off x="1143000" y="304920"/>
            <a:ext cx="68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 estimated 2 billion hooks are set each year by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longlin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fishing fleets, killing 40,000 sea turtles, over 300,000 sea birds and millions of sharks annually, to name a f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12" descr="longlining"/>
          <p:cNvPicPr/>
          <p:nvPr/>
        </p:nvPicPr>
        <p:blipFill>
          <a:blip r:embed="rId1"/>
          <a:stretch/>
        </p:blipFill>
        <p:spPr>
          <a:xfrm>
            <a:off x="609480" y="2590920"/>
            <a:ext cx="777240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9" descr="Gill Net"/>
          <p:cNvPicPr/>
          <p:nvPr/>
        </p:nvPicPr>
        <p:blipFill>
          <a:blip r:embed="rId1"/>
          <a:stretch/>
        </p:blipFill>
        <p:spPr>
          <a:xfrm>
            <a:off x="304920" y="1752480"/>
            <a:ext cx="8305560" cy="48387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2819520" y="457200"/>
            <a:ext cx="3809880" cy="76428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Comic Sans MS"/>
              </a:rPr>
              <a:t>Gillne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410080" y="4572000"/>
            <a:ext cx="2819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laskan pink salmon are evolving into smaller fish, the ones who make it through the gill nets survive to reprodu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6"/>
          <p:cNvSpPr/>
          <p:nvPr/>
        </p:nvSpPr>
        <p:spPr>
          <a:xfrm>
            <a:off x="990720" y="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For every pound of shrimp caught, 10 - 20 lbs of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bycatch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“trawl trash” is killed and discarde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8" descr="Trawling"/>
          <p:cNvPicPr/>
          <p:nvPr/>
        </p:nvPicPr>
        <p:blipFill>
          <a:blip r:embed="rId1"/>
          <a:stretch/>
        </p:blipFill>
        <p:spPr>
          <a:xfrm>
            <a:off x="838080" y="2743200"/>
            <a:ext cx="3429000" cy="36576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8"/>
          <p:cNvSpPr/>
          <p:nvPr/>
        </p:nvSpPr>
        <p:spPr>
          <a:xfrm>
            <a:off x="4495680" y="2743200"/>
            <a:ext cx="4419720" cy="3733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Box 9"/>
          <p:cNvSpPr/>
          <p:nvPr/>
        </p:nvSpPr>
        <p:spPr>
          <a:xfrm>
            <a:off x="4952880" y="3352680"/>
            <a:ext cx="3200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The area of the seafloor trawled is equal to 150X the area of forests clear cut each yea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5" descr="Capture fishing grew from  20 million tons in 1950 to more than 80 million tons in 1998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838080" y="380880"/>
            <a:ext cx="7543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quaculture now accounts for about 1/3 of our sea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Now due to environmental problems marine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aquaculture is being revisi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7" descr="salmon_farms040108"/>
          <p:cNvPicPr/>
          <p:nvPr/>
        </p:nvPicPr>
        <p:blipFill>
          <a:blip r:embed="rId1"/>
          <a:stretch/>
        </p:blipFill>
        <p:spPr>
          <a:xfrm>
            <a:off x="1447920" y="4343400"/>
            <a:ext cx="6400800" cy="25146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1218960" y="4267080"/>
            <a:ext cx="746748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1523880" y="228600"/>
            <a:ext cx="60199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alibri"/>
              </a:rPr>
              <a:t>Case Study: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Calibri"/>
              </a:rPr>
              <a:t>Paper and Deforest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1676160"/>
            <a:ext cx="6934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U.S. and pap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 We (5% or world’s pop.) use 30% of pa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Global wood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  Predicted to double by 20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oldgrowth_logo_lg"/>
          <p:cNvPicPr/>
          <p:nvPr/>
        </p:nvPicPr>
        <p:blipFill>
          <a:blip r:embed="rId1"/>
          <a:stretch/>
        </p:blipFill>
        <p:spPr>
          <a:xfrm>
            <a:off x="6781680" y="2666880"/>
            <a:ext cx="21337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6553080" y="6338880"/>
            <a:ext cx="312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3 John Wiley and Sons Publis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3"/>
          <p:cNvSpPr/>
          <p:nvPr/>
        </p:nvSpPr>
        <p:spPr>
          <a:xfrm>
            <a:off x="2895480" y="533520"/>
            <a:ext cx="3200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he world’s major fishe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" descr="F14_9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0" y="5562720"/>
            <a:ext cx="33526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Red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= upwelling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igh 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Yellow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= moderate 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457200" y="685800"/>
            <a:ext cx="7924680" cy="52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Who’s being deple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irtually every large fish in the ocean: Including, but not limit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l have declined by 90% since industrialized fishing after WWI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5" descr="north_sea_cod_en"/>
          <p:cNvPicPr/>
          <p:nvPr/>
        </p:nvPicPr>
        <p:blipFill>
          <a:blip r:embed="rId1"/>
          <a:stretch/>
        </p:blipFill>
        <p:spPr>
          <a:xfrm>
            <a:off x="-60480" y="46080"/>
            <a:ext cx="920448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isheries in total collap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ys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uefin and Albacore Tu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rd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lantic C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chovies from Per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lmon from Pacific Northw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laska is O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5" descr="Collapse of the Newfoundland cod fisher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838080" y="68580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World  Fisheries Cong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533520" y="1371600"/>
            <a:ext cx="83818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992 and 199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very major country discusses codes of conduct/harvesting…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stablish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762120" y="304920"/>
            <a:ext cx="784836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day:  80% of our fish must be imported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Case Study :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Local Depletion of Rock Fis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9" descr="Red_Rock_Cod"/>
          <p:cNvPicPr/>
          <p:nvPr/>
        </p:nvPicPr>
        <p:blipFill>
          <a:blip r:embed="rId1"/>
          <a:stretch/>
        </p:blipFill>
        <p:spPr>
          <a:xfrm>
            <a:off x="1066680" y="3581280"/>
            <a:ext cx="7162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1143000" y="9144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Case Study – Atlantic Co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10" descr="atlanticcodendangered.jpg"/>
          <p:cNvPicPr/>
          <p:nvPr/>
        </p:nvPicPr>
        <p:blipFill>
          <a:blip r:embed="rId1"/>
          <a:stretch/>
        </p:blipFill>
        <p:spPr>
          <a:xfrm>
            <a:off x="1143000" y="2362320"/>
            <a:ext cx="62485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440" y="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oxic Pollution and Was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Polluta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Bleaching pap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lorin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aia_b_guetezeichen2_0_magia"/>
          <p:cNvPicPr/>
          <p:nvPr/>
        </p:nvPicPr>
        <p:blipFill>
          <a:blip r:embed="rId1"/>
          <a:stretch/>
        </p:blipFill>
        <p:spPr>
          <a:xfrm>
            <a:off x="5257800" y="419112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Seventh Generation Toilet Paper"/>
          <p:cNvPicPr/>
          <p:nvPr/>
        </p:nvPicPr>
        <p:blipFill>
          <a:blip r:embed="rId2"/>
          <a:stretch/>
        </p:blipFill>
        <p:spPr>
          <a:xfrm>
            <a:off x="990720" y="3429000"/>
            <a:ext cx="3429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4" descr="image001"/>
          <p:cNvPicPr/>
          <p:nvPr/>
        </p:nvPicPr>
        <p:blipFill>
          <a:blip r:embed="rId1"/>
          <a:stretch/>
        </p:blipFill>
        <p:spPr>
          <a:xfrm>
            <a:off x="533520" y="228600"/>
            <a:ext cx="8310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6" descr="Graph representing Trend in median age-at-maturity for Atlantic cod in Lofoton,&#13;&#10;Norway."/>
          <p:cNvPicPr/>
          <p:nvPr/>
        </p:nvPicPr>
        <p:blipFill>
          <a:blip r:embed="rId1"/>
          <a:stretch/>
        </p:blipFill>
        <p:spPr>
          <a:xfrm>
            <a:off x="228600" y="266760"/>
            <a:ext cx="8610480" cy="52434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7"/>
          <p:cNvSpPr/>
          <p:nvPr/>
        </p:nvSpPr>
        <p:spPr>
          <a:xfrm>
            <a:off x="1295280" y="58672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sh caught are getting younger and you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les and Wh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at whales and wha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sistence  vs. commercia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viest losses in 20th century wit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 whaling equi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9" descr="Norwegian Whaler &amp; Harpoon"/>
          <p:cNvPicPr/>
          <p:nvPr/>
        </p:nvPicPr>
        <p:blipFill>
          <a:blip r:embed="rId1"/>
          <a:stretch/>
        </p:blipFill>
        <p:spPr>
          <a:xfrm>
            <a:off x="5638680" y="4419720"/>
            <a:ext cx="2979720" cy="1981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whaling; Copyright John Cunningham; skylinephoto@hotmail.com"/>
          <p:cNvPicPr/>
          <p:nvPr/>
        </p:nvPicPr>
        <p:blipFill>
          <a:blip r:embed="rId2"/>
          <a:stretch/>
        </p:blipFill>
        <p:spPr>
          <a:xfrm>
            <a:off x="1295280" y="4170240"/>
            <a:ext cx="381024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8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ercial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ch less $$ than fishe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a few crucial products (whale oi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______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ablished i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46 set moratorium on commercial wha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1982  (very important!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762120" y="380880"/>
            <a:ext cx="723888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ecies depleted, in order, by commercial whal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*Right Wh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umpback Wh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erm Wh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lue Wh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 Wh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inke Wh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re difficult to catch, not as valu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666880" y="3733560"/>
            <a:ext cx="6019920" cy="23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o Violates Ban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0000 have been slaughtered since the ban in 198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4568760" y="3860640"/>
            <a:ext cx="6480" cy="50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under guise of “scientific research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ys the “rats of the sea” are responsible for crash of fisherie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WC contemplating 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05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3352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lphins, porpoise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ercial and accidental hunting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tuna nett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peration and boycotting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helped establish measur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reduce bycatch mortal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Endangered Spe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l. Union of Concerned Scientists (IUCC) Red List says, at risk of extinction are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all known mamm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all known bi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all known rept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all known amphibi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Natural Causes of Exti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pulation fluctuations (if pop is very lo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vironmental Vari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ural Catastrop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tic changes (Small pop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Human Causes of Exti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33160" y="60948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aper is the dominant material in solid wast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5" descr="landfill"/>
          <p:cNvPicPr/>
          <p:nvPr/>
        </p:nvPicPr>
        <p:blipFill>
          <a:blip r:embed="rId1"/>
          <a:stretch/>
        </p:blipFill>
        <p:spPr>
          <a:xfrm>
            <a:off x="3352680" y="1371600"/>
            <a:ext cx="48769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80880" y="3045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lternatives to wood in pa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Kenaf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from East Ind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Man in Kenaf field"/>
          <p:cNvPicPr/>
          <p:nvPr/>
        </p:nvPicPr>
        <p:blipFill>
          <a:blip r:embed="rId1"/>
          <a:stretch/>
        </p:blipFill>
        <p:spPr>
          <a:xfrm>
            <a:off x="5486400" y="1828800"/>
            <a:ext cx="3286080" cy="40766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380880" y="1600200"/>
            <a:ext cx="4876920" cy="4648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em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first paper 105 A.D. - Chi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7" descr="oldtracto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2057400"/>
            <a:ext cx="3095640" cy="28954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0"/>
          <p:cNvSpPr/>
          <p:nvPr/>
        </p:nvSpPr>
        <p:spPr>
          <a:xfrm>
            <a:off x="5638680" y="52578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f world’s most versatile fi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457200" y="1143000"/>
            <a:ext cx="4952880" cy="541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hempclothing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304920"/>
            <a:ext cx="2327400" cy="3886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hempclothing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304920"/>
            <a:ext cx="2595600" cy="3809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hempshoes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248520" y="380880"/>
            <a:ext cx="2581200" cy="3733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hempoil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62120" y="4267080"/>
            <a:ext cx="3657600" cy="2590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hempbags"/>
          <p:cNvPicPr/>
          <p:nvPr/>
        </p:nvPicPr>
        <p:blipFill>
          <a:blip r:embed="rId9"/>
          <a:stretch/>
        </p:blipFill>
        <p:spPr>
          <a:xfrm>
            <a:off x="4800600" y="4267080"/>
            <a:ext cx="3886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hemp20"/>
          <p:cNvPicPr/>
          <p:nvPr/>
        </p:nvPicPr>
        <p:blipFill>
          <a:blip r:embed="rId1"/>
          <a:stretch/>
        </p:blipFill>
        <p:spPr>
          <a:xfrm>
            <a:off x="762120" y="304920"/>
            <a:ext cx="2819160" cy="3028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matériaux de construction"/>
          <p:cNvPicPr/>
          <p:nvPr/>
        </p:nvPicPr>
        <p:blipFill>
          <a:blip r:embed="rId2"/>
          <a:stretch/>
        </p:blipFill>
        <p:spPr>
          <a:xfrm>
            <a:off x="4191120" y="304920"/>
            <a:ext cx="4419360" cy="29368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838080" y="3505320"/>
            <a:ext cx="7772400" cy="29718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9T23:03:34Z</dcterms:created>
  <dc:creator>Amy Chan</dc:creator>
  <dc:description/>
  <dc:language>en-US</dc:language>
  <cp:lastModifiedBy>tosborne</cp:lastModifiedBy>
  <dcterms:modified xsi:type="dcterms:W3CDTF">2011-12-05T15:57:58Z</dcterms:modified>
  <cp:revision>71</cp:revision>
  <dc:subject/>
  <dc:title>Chapter 13  Landscapes and Seascapes</dc:title>
</cp:coreProperties>
</file>